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3CE9-EDE4-40E6-9853-6992597D6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C919-FC2C-4CA9-AA16-F2E41B6E4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892-7AED-43F5-8676-412D4B0B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BB6-DCBB-49B0-8B9F-C4CFF5A7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615-B2BE-4752-BF67-2B10A641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6BF-DA5D-4D0A-B9E2-1B9BFE7B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615-B52B-4F0A-95D5-3EEE3D5E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870D-7654-4B11-B721-0D7341EB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D73-2220-4246-B1B8-594DE1CE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67E-6E5A-4A07-ACE3-5E94E75E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69B-C95D-4CCC-8574-F11370DA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86F-11BB-4BA9-B0D7-8B7418EB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E37-DA1C-46FC-8B4B-E48D17A7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01D-31A3-42E1-88EE-85E0B038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5D05-84A3-4475-A192-6C66D5DE1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abriela Rami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abriela Ramire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Gabriela Ramirez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Gabriela Ramirez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Gabriela Ramir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05320"/>
            <a:ext cx="1752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i nombre es Gabriela. Yo vivo en Nueva York. Tengo catorce años. Yo tengo seis hermanos. Yo soy calmada y am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tardes amiga                                                          Gabb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Gabriel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 amiga. Como est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har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, bien gracias, quieres comprar comida conmig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4T14:57:37Z</dcterms:modified>
  <cp:revision>104</cp:revision>
  <dc:subject/>
  <dc:title>Profile</dc:title>
</cp:coreProperties>
</file>